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764-2106-43EB-88F3-E86A877F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896148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79280" y="6189120"/>
            <a:ext cx="896148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C77-238D-42BF-8B33-25D51A8B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8792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710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824-6299-4B48-B3B5-34022A40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909400" y="490680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939520" y="490680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879280" y="618912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909400" y="618912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939520" y="618912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5BC-C53C-4910-BBEC-61915A22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58CF-75EA-4532-A6BB-E1C1F924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879280" y="4906800"/>
            <a:ext cx="8961480" cy="24544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7A60-F240-4BF2-A4F3-7ABE5D82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896148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6480-B523-4982-AA15-49E8C905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71E7-40B0-487A-AF08-C33FD2DC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9D1D-C103-477E-81A6-66E68DA2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0480" y="1706040"/>
            <a:ext cx="10880640" cy="125485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05FB-4122-44BB-8347-E9B47EC8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792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8F0C-0AF2-4977-A74C-C256BD4F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879280" y="4906800"/>
            <a:ext cx="8961480" cy="24544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FE5-76EC-44B5-BC53-A1B4B046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710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C18A-3BEE-4607-A0B5-FDAB7C2A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79280" y="6189120"/>
            <a:ext cx="896148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19CE-5054-4C20-8CF4-16D9EAE4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896148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79280" y="6189120"/>
            <a:ext cx="896148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C522-B80E-428C-8301-16322174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792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4710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AF7F-90CF-4196-B406-824D8F9D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909400" y="490680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939520" y="490680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879280" y="618912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5909400" y="618912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8939520" y="618912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0AB5-7E9B-4A02-B94D-99128E6E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896148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36F-FA5E-4121-8179-C61081D7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21B-8756-4D63-ABD8-C638AE76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7BC-2FE0-484A-9D8A-358008EE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60480" y="1706040"/>
            <a:ext cx="10880640" cy="125485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0F8-F324-4B78-A605-76A9601A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792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4AC-58D2-4780-865C-01915F1D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710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B95-A16A-4D34-867F-71069859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79280" y="6189120"/>
            <a:ext cx="896148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74C-1777-4D85-A94F-85FA38DC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99760" y="426960"/>
            <a:ext cx="10661400" cy="1548720"/>
            <a:chOff x="1499760" y="426960"/>
            <a:chExt cx="10661400" cy="1548720"/>
          </a:xfrm>
        </p:grpSpPr>
        <p:sp>
          <p:nvSpPr>
            <p:cNvPr id="1" name=""/>
            <p:cNvSpPr/>
            <p:nvPr/>
          </p:nvSpPr>
          <p:spPr>
            <a:xfrm flipH="1">
              <a:off x="6816240" y="426960"/>
              <a:ext cx="1546560" cy="15469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10616040" y="426960"/>
              <a:ext cx="1544760" cy="15469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499400" y="428760"/>
              <a:ext cx="1544040" cy="15469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8853480" y="426960"/>
              <a:ext cx="1544760" cy="1546920"/>
            </a:xfrm>
            <a:prstGeom prst="ellipse">
              <a:avLst/>
            </a:pr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301560" y="426960"/>
              <a:ext cx="1544760" cy="1546920"/>
            </a:xfrm>
            <a:prstGeom prst="ellipse">
              <a:avLst/>
            </a:pr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39720" y="2239560"/>
            <a:ext cx="11522160" cy="6343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9bb0cb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9bb0cb"/>
              </a:buClr>
              <a:buFont typeface="Wingdings" charset="2"/>
              <a:buChar char="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39360" y="8746920"/>
            <a:ext cx="298764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4373640" y="8746920"/>
            <a:ext cx="405432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9173880" y="8746920"/>
            <a:ext cx="298764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17B3FAA1-5644-4447-8490-A8684DC10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322360" y="2239920"/>
            <a:ext cx="9572400" cy="4481280"/>
            <a:chOff x="2322360" y="2239920"/>
            <a:chExt cx="9572400" cy="4481280"/>
          </a:xfrm>
        </p:grpSpPr>
        <p:sp>
          <p:nvSpPr>
            <p:cNvPr id="48" name=""/>
            <p:cNvSpPr/>
            <p:nvPr/>
          </p:nvSpPr>
          <p:spPr>
            <a:xfrm flipH="1">
              <a:off x="9761400" y="2239920"/>
              <a:ext cx="2133360" cy="21337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253280" y="2239920"/>
              <a:ext cx="2133720" cy="21337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746240" y="2239920"/>
              <a:ext cx="2133720" cy="2133720"/>
            </a:xfrm>
            <a:prstGeom prst="ellipse">
              <a:avLst/>
            </a:pr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746240" y="4587480"/>
              <a:ext cx="2133720" cy="21337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322360" y="4587480"/>
              <a:ext cx="2133360" cy="21337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9761400" y="4587480"/>
              <a:ext cx="2133360" cy="2133720"/>
            </a:xfrm>
            <a:prstGeom prst="ellipse">
              <a:avLst/>
            </a:pr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639360" y="8746920"/>
            <a:ext cx="298764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4373640" y="8746920"/>
            <a:ext cx="405432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173880" y="8746920"/>
            <a:ext cx="298764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0D7E8A01-C75D-4561-BB7F-9CE809D0C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 algn="ctr">
              <a:spcBef>
                <a:spcPts val="9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79440" algn="ctr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0960" algn="ctr">
              <a:spcBef>
                <a:spcPts val="700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60680" algn="ctr">
              <a:spcBef>
                <a:spcPts val="700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6068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6068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5720" y="552600"/>
            <a:ext cx="10880640" cy="1341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o-RO" sz="7200" spc="-1" strike="noStrike">
                <a:solidFill>
                  <a:srgbClr val="3333ff"/>
                </a:solidFill>
                <a:latin typeface="Comic Sans MS"/>
              </a:rPr>
              <a:t>SEMNUL ÎNTREBĂRI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063520"/>
            <a:ext cx="12801600" cy="1584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o-RO" sz="4400" spc="-1" strike="noStrike">
                <a:solidFill>
                  <a:srgbClr val="000000"/>
                </a:solidFill>
                <a:latin typeface="Verdana"/>
              </a:rPr>
              <a:t>Semnul întrebării se foloseşte la sfârşitul  unei întrebăr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55360" y="7032240"/>
            <a:ext cx="9720360" cy="1655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84000"/>
          </a:bodyPr>
          <a:p>
            <a:pPr marL="402480"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 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L-aţi văzut cumva pe Zdreanţă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?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2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T. Arghezi – “Zdreanţă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206800">
            <a:off x="265680" y="3666960"/>
            <a:ext cx="648000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Unde eşti, Patrocle</a:t>
            </a:r>
            <a:r>
              <a:rPr b="1" lang="ro-RO" sz="6000" spc="-1" strike="noStrike">
                <a:solidFill>
                  <a:srgbClr val="3333ff"/>
                </a:solidFill>
                <a:latin typeface="Monotype Corsiva"/>
              </a:rPr>
              <a:t>?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M. Sadoveanu – “Dumbrava minunată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61160" y="6529320"/>
            <a:ext cx="439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158600">
            <a:off x="5580720" y="3811320"/>
            <a:ext cx="69134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Ce te legeni, codrule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Fără ploaie, fără vânt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?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M. Eminescu – “Ce te legeni...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5720" y="407520"/>
            <a:ext cx="10880640" cy="136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o-RO" sz="7200" spc="-1" strike="noStrike">
                <a:solidFill>
                  <a:srgbClr val="3333ff"/>
                </a:solidFill>
                <a:latin typeface="Comic Sans MS"/>
              </a:rPr>
              <a:t>LINIA DE DI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0" y="1991880"/>
            <a:ext cx="12801600" cy="1584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Linia de dialog se foloseşte la începutul vorbirii fiecărei persoan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9720" y="4224240"/>
            <a:ext cx="1072980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 </a:t>
            </a:r>
            <a:r>
              <a:rPr b="1" lang="en-US" sz="6600" spc="-1" strike="noStrike">
                <a:solidFill>
                  <a:srgbClr val="3333ff"/>
                </a:solidFill>
                <a:latin typeface="Monotype Corsiva"/>
              </a:rPr>
              <a:t>-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 Ia-i, dragă, dacă ne iubeşti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   </a:t>
            </a:r>
            <a:r>
              <a:rPr b="1" lang="en-US" sz="5400" spc="-1" strike="noStrike">
                <a:solidFill>
                  <a:srgbClr val="3333ff"/>
                </a:solidFill>
                <a:latin typeface="Monotype Corsiva"/>
              </a:rPr>
              <a:t>- 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mai fi trist, Apolodor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   </a:t>
            </a:r>
            <a:r>
              <a:rPr b="1" lang="ro-RO" sz="5400" spc="-1" strike="noStrike">
                <a:solidFill>
                  <a:srgbClr val="3333ff"/>
                </a:solidFill>
                <a:latin typeface="Monotype Corsiva"/>
              </a:rPr>
              <a:t>-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Ţi-i dăm pe toţi, dacă zâmbeşti..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Gellu Naum, “Cartea cu Apolo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0080" y="263160"/>
            <a:ext cx="10880640" cy="12970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o-RO" sz="7200" spc="-1" strike="noStrike">
                <a:solidFill>
                  <a:srgbClr val="3333ff"/>
                </a:solidFill>
                <a:latin typeface="Comic Sans MS"/>
              </a:rPr>
              <a:t>DOUĂ PUNC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1344600"/>
            <a:ext cx="12801600" cy="2664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Scriem două puncte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când urmează cuvintele unei persoane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când urmează o enumerare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63880"/>
            <a:ext cx="102456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Moşneagul îşi pierdu răbdarea şi zise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Corsiva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Ia dă-mi şi mie nişte ouă, ca să-mi prind pofta măcar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I. Creangă, “Punguţa cu doi bani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84520" y="6888240"/>
            <a:ext cx="110170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Stau grămădite fel de fel de jucării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: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 pe două mese, pe canapea, pe fotolii, pe jos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I. L. Caragiale, “Vizită...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8800" y="552240"/>
            <a:ext cx="10880640" cy="136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o-RO" sz="7200" spc="-1" strike="noStrike">
                <a:solidFill>
                  <a:srgbClr val="3333ff"/>
                </a:solidFill>
                <a:latin typeface="Comic Sans MS"/>
              </a:rPr>
              <a:t>SEMNUL EXCLAMĂRI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0" y="2208240"/>
            <a:ext cx="12801600" cy="2016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La sfârşitul enunţurilor care exprimă o exclamare (o mirare sau o bucurie), o poruncă, un sfat, un salut se scrie </a:t>
            </a:r>
            <a:r>
              <a:rPr b="0" i="1" lang="ro-RO" sz="4500" spc="-1" strike="noStrike">
                <a:solidFill>
                  <a:srgbClr val="000000"/>
                </a:solidFill>
                <a:latin typeface="Arial"/>
              </a:rPr>
              <a:t>semnul exclamării</a:t>
            </a: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689800">
            <a:off x="382320" y="4641840"/>
            <a:ext cx="7272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Ce frumos era în crânguri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!</a:t>
            </a:r>
            <a:r>
              <a:rPr b="0" lang="ro-RO" sz="6600" spc="-1" strike="noStrike">
                <a:solidFill>
                  <a:srgbClr val="ff0066"/>
                </a:solidFill>
                <a:latin typeface="Monotype Corsiva"/>
              </a:rPr>
              <a:t>” 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M. Eminescu – “Freamăt de codru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29160" y="5952960"/>
            <a:ext cx="734364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Să nu-l scapi pe fereastră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!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I. L. Caragiale – “Bubico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47720" y="7248600"/>
            <a:ext cx="61214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Să trăieşti, Măria-Ta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!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I. Creangă – “Moş Ion Roată şi Vodă Cuz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336240"/>
            <a:ext cx="10880640" cy="1439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o-RO" sz="7200" spc="-1" strike="noStrike">
                <a:solidFill>
                  <a:srgbClr val="3333ff"/>
                </a:solidFill>
                <a:latin typeface="Comic Sans MS"/>
              </a:rPr>
              <a:t>PUNCT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1775880"/>
            <a:ext cx="12801600" cy="1511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La sfârşitul propoziţiei prin care se comunică o constatare se scrie punct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191400">
            <a:off x="48960" y="3429000"/>
            <a:ext cx="907272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Era odată o babă şi un moşneag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.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I. Creangă, “Punguţa cu doi bani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5016600"/>
            <a:ext cx="733752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Apolodor e-n Labrador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.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Gellu Naum, Cartea cu Apolo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8440" y="6888240"/>
            <a:ext cx="1223316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Cineva, nu se ştie din ce vagon, a tras semnalul de alarmă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.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I. L. Caragiale, “D-l Goe...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23:37:00Z</dcterms:created>
  <dc:creator>Cristi&amp;Adela</dc:creator>
  <dc:description/>
  <dc:language>en-US</dc:language>
  <cp:lastModifiedBy>IULIA</cp:lastModifiedBy>
  <dcterms:modified xsi:type="dcterms:W3CDTF">2010-01-18T16:24:45Z</dcterms:modified>
  <cp:revision>6</cp:revision>
  <dc:subject/>
  <dc:title>Slide 1</dc:title>
</cp:coreProperties>
</file>